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0DDA-BD86-48EC-9DFE-F04DA6DA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33B-BA7E-4A56-9B69-DC01E6DD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285-211C-47F4-ABD9-9B02DABF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EC47-F82D-4296-9A95-BF20DECC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29D9-485B-4168-B7A2-7A7BDC1E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C4DC-02D8-4A0A-91FC-A9E184B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6246-C2DA-451E-BAF2-372F9600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3A78-BA55-47D6-BECC-03DE974A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F39D-A9F9-4621-A2F3-D5B831CC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D066-FEDE-4CA0-86C6-6BDBB768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726C-F632-4A4B-B5C7-D803C20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29C-D4BA-4037-A7F1-1E580B9F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411C-C73B-427D-9C1E-21E7D763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CA32-A8C9-407E-A874-39C67D1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AF3E-BAEF-40D2-9249-FED19EBF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C705-22BF-4B63-889F-43934865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7617-C297-4DA7-8677-D97AA231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B6FA5-7A0F-4FDD-825E-DEE76663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E417-1930-4E70-84BF-52FEAAC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BD190-2551-4D26-8397-CF1CDD34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D4AA-C568-4150-98D4-28BA7EC8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00580-9095-4249-973B-297D4B3F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902-748D-452A-8949-A3416D51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75EBF-8A74-43B1-8EE7-163FD6BC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D066-ED89-4A83-9448-FA51BD16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6066-D896-470A-998E-58AC7001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9EA0-FBEC-4B9D-9DFC-FF52D594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632F7-C2EC-4A4F-A9BF-41EFD956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8CDA8-3A77-4E57-8382-54791208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6A0D-FD47-440C-A44B-8EA72875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F46D-4591-4A89-B7A2-33554B4D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BC571-C401-4B99-AF6F-B71C8BBF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62F2A-39B3-4EBA-8590-A3DE8265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50D-6B73-4EF9-8375-46F24E2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6049C-5982-44FD-B8E6-175B851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694F-9C8C-4388-9B74-51D8B150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E485F-7691-4C64-911C-D105C881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0AE8-23DB-44C9-94F2-601327E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55C1F-E233-4083-945C-867DD4A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4D28E-06D7-4824-9647-9338AFE8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F8A8E-C69B-4385-B885-B899A883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AA8F3-5703-4E64-8E98-4E3CA7E6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4102-1527-409F-A7B0-2BACA0A2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570-9D35-432D-8DBB-DCD4E1C5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4AD-A767-43EB-B6D9-0538632FA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897-A913-40F5-A9D5-0340AC7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4B4-2255-47B5-A75C-8EB66DC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591-CB77-49C5-9669-93261E6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754B-8320-461B-B806-4A1994D3C18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E4C3-94BA-4075-9AAA-D740E93D5F9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dbf5f9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6CD5-D0CE-4009-8E8D-DB9531DCFC7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dbf5f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bf5f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F3CA-FE13-426B-9DF7-D782B8D92FD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3" descr=""/>
          <p:cNvPicPr/>
          <p:nvPr/>
        </p:nvPicPr>
        <p:blipFill>
          <a:blip r:embed="rId2"/>
          <a:stretch/>
        </p:blipFill>
        <p:spPr>
          <a:xfrm>
            <a:off x="438120" y="1255680"/>
            <a:ext cx="822492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040" y="4419720"/>
            <a:ext cx="7543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Unit Plan by: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lyana A. Agosto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Niña Rose A. Aguilos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Summa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class will engage with questions that will measure their past knowledge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re will be class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Formative Evaluation will follow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Summary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learners will be grouped accordingly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Start of group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Making of model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Presentation of model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Title 1" descr=""/>
          <p:cNvPicPr/>
          <p:nvPr/>
        </p:nvPicPr>
        <p:blipFill>
          <a:blip r:embed="rId2"/>
          <a:stretch/>
        </p:blipFill>
        <p:spPr>
          <a:xfrm>
            <a:off x="530280" y="2889360"/>
            <a:ext cx="83152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 topic looks into the levels of organization of living thing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It would help us know the different roles of each levels of organization into our lives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Goal of the Student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y will be a learner at the same time a teacher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They will be able to share some of there knowledge and apply them to the discussion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ssential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the importance of the interaction of cells, tissues, organs and systems in maintaining the life of an organism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y do we need to study anatomy and Physiology of animals? 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Essential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How important is the understanding of human anatomy and physiology into our liv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How technology can be of great help in maintaining and helping defective organs to function well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Unit Ques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are the Levels of Organization? Arrange from simplest to the most complex. Describe each level.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Content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a cell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a tissue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 different types of animal tissu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ir us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are organ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Content Ques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are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 different types of organ system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-What are their uses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239"/>
                </a:solidFill>
                <a:latin typeface="Arial"/>
                <a:ea typeface="Arial"/>
              </a:rPr>
              <a:t>What is an organism?</a:t>
            </a: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bf5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Arial"/>
              </a:rPr>
              <a:t>Assessment Timelin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52280" y="1600200"/>
          <a:ext cx="8839440" cy="478944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Before Project Begin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Students work on projects and complete task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Times New Roman"/>
                        </a:rPr>
                        <a:t>After project work is completed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bd0d9"/>
                    </a:solidFill>
                  </a:tcPr>
                </a:tc>
              </a:tr>
              <a:tr h="34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Questioning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Discussion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Unit quiz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Class grouping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Group discussion and sharing of insights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Making of their models (1 week)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Model presentation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93239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93239"/>
                          </a:solidFill>
                          <a:latin typeface="Arial"/>
                          <a:ea typeface="Arial"/>
                        </a:rPr>
                        <a:t>Model rubric</a:t>
                      </a:r>
                      <a:endParaRPr b="0" lang="en-US" sz="2800" spc="-1" strike="noStrike">
                        <a:solidFill>
                          <a:srgbClr val="dbf5f9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04:49:12Z</dcterms:created>
  <dc:creator>USER</dc:creator>
  <dc:description/>
  <dc:language>en-US</dc:language>
  <cp:lastModifiedBy>nave1386</cp:lastModifiedBy>
  <dcterms:modified xsi:type="dcterms:W3CDTF">2010-09-03T19:43:32Z</dcterms:modified>
  <cp:revision>15</cp:revision>
  <dc:subject/>
  <dc:title>Human Anatomy and Physiology</dc:title>
</cp:coreProperties>
</file>